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2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599-5DAE-4C80-9DB1-A085ACB4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170-4534-4E01-98A8-1FE0B7A2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9F7-6836-4437-BFA2-4BC672DD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EC4-F6F2-4213-BDE9-2BDC1486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EAAC-ABF4-4DF5-8AC3-D3C86D44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DE12-A223-4BCD-A40E-07D28D71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686D-392E-4AF1-B4CE-95466F39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A926-648B-4ED2-B698-A30AE3AC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FA49-98DD-45EC-9514-76B49E57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567B-051B-4AA3-A0F7-97C90FB4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7162-D664-4866-B8F8-D19EFAA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495-AB61-4B4E-AAFF-A3395DD1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C4F9-4875-48B8-9A6C-98F73664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B7A3-2343-4A52-9092-F0FD632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86F0-F36A-4D65-B5FB-4BBFF24F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0297-23A5-4138-8764-93314230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47D4-5881-4BBA-A2C1-2015FDEC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42C-A1D7-42BA-B3B5-B69516C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678-DB63-4FDB-A227-9C57FEBA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8E1-EBD9-4FEC-B20B-8D6197F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71F-F9EF-4CEE-9796-6D524E20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869-CFB2-47B2-9DAA-5A3B34BA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94D-2F8B-4518-A8CD-C99D3EE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367-1AC6-4DB1-A088-BDF1A60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54D6-8E91-4A92-9D6B-E08B4E48019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E4F5-268C-4712-8850-A45A9BE4ACA0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hyperlink" Target="258,3,&#24187;&#28783;&#29255; 3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73,6,&#24187;&#28783;&#29255; 6" TargetMode="External"/><Relationship Id="rId5" Type="http://schemas.openxmlformats.org/officeDocument/2006/relationships/hyperlink" Target="259,8,&#24187;&#28783;&#29255; 8" TargetMode="External"/><Relationship Id="rId6" Type="http://schemas.openxmlformats.org/officeDocument/2006/relationships/hyperlink" Target="262,10,&#24187;&#28783;&#29255; 10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275,12,&#24187;&#28783;&#29255; 12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69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170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</a:t>
            </a:r>
            <a:r>
              <a:rPr b="0" lang="en-US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-</a:t>
            </a: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艺术简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611280" y="3063960"/>
            <a:ext cx="61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内容占位符 24577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4578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4579" descr="cad4291e28e0f725ff32238d67_5602_副本"/>
          <p:cNvPicPr/>
          <p:nvPr/>
        </p:nvPicPr>
        <p:blipFill>
          <a:blip r:embed="rId3"/>
          <a:stretch/>
        </p:blipFill>
        <p:spPr>
          <a:xfrm>
            <a:off x="-132408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24580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4581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4582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6625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6626" descr="2007919151255477_副本"/>
          <p:cNvPicPr/>
          <p:nvPr/>
        </p:nvPicPr>
        <p:blipFill>
          <a:blip r:embed="rId2"/>
          <a:stretch/>
        </p:blipFill>
        <p:spPr>
          <a:xfrm>
            <a:off x="-2187720" y="1628640"/>
            <a:ext cx="2151360" cy="388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6627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26628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629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26630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9217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9218"/>
          <p:cNvSpPr/>
          <p:nvPr/>
        </p:nvSpPr>
        <p:spPr>
          <a:xfrm>
            <a:off x="1406520" y="187812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19"/>
          <p:cNvSpPr/>
          <p:nvPr/>
        </p:nvSpPr>
        <p:spPr>
          <a:xfrm>
            <a:off x="2197080" y="277812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20"/>
          <p:cNvSpPr/>
          <p:nvPr/>
        </p:nvSpPr>
        <p:spPr>
          <a:xfrm>
            <a:off x="3338640" y="364968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21"/>
          <p:cNvSpPr/>
          <p:nvPr/>
        </p:nvSpPr>
        <p:spPr>
          <a:xfrm>
            <a:off x="4545000" y="43052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9222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223" descr="cad4291e28e0f725ff32238d67_560_本"/>
          <p:cNvPicPr/>
          <p:nvPr/>
        </p:nvPicPr>
        <p:blipFill>
          <a:blip r:embed="rId8"/>
          <a:stretch/>
        </p:blipFill>
        <p:spPr>
          <a:xfrm>
            <a:off x="-1249200" y="51577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9224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9225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226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内容占位符 11265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11267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11268" descr="cad4291e28e0f725ff32238d67_560_副本1"/>
          <p:cNvPicPr/>
          <p:nvPr/>
        </p:nvPicPr>
        <p:blipFill>
          <a:blip r:embed="rId3"/>
          <a:stretch/>
        </p:blipFill>
        <p:spPr>
          <a:xfrm>
            <a:off x="-1200240" y="5315040"/>
            <a:ext cx="120024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69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270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内容占位符 13313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13315" descr="cad4291e28e0f725ff32238d67_560_副本3"/>
          <p:cNvPicPr/>
          <p:nvPr/>
        </p:nvPicPr>
        <p:blipFill>
          <a:blip r:embed="rId2"/>
          <a:stretch/>
        </p:blipFill>
        <p:spPr>
          <a:xfrm>
            <a:off x="-130824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05" name="内容占位符 13316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3317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318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319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内容占位符 15361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15363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12" name="内容占位符 15364" descr="cad4291e28e0f725ff32238d67_560_副本8"/>
          <p:cNvPicPr/>
          <p:nvPr/>
        </p:nvPicPr>
        <p:blipFill>
          <a:blip r:embed="rId3"/>
          <a:stretch/>
        </p:blipFill>
        <p:spPr>
          <a:xfrm>
            <a:off x="-1238400" y="5381640"/>
            <a:ext cx="123840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5365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内容占位符 17409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17411" descr="2541252_165850689121_2_副本"/>
          <p:cNvPicPr/>
          <p:nvPr/>
        </p:nvPicPr>
        <p:blipFill>
          <a:blip r:embed="rId2"/>
          <a:stretch/>
        </p:blipFill>
        <p:spPr>
          <a:xfrm>
            <a:off x="-1290600" y="95400"/>
            <a:ext cx="1290600" cy="119844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17412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7413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414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内容占位符 18433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18435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23" name="内容占位符 18436" descr="cad4291e28e0f725ff32238d67_560_副本3"/>
          <p:cNvPicPr/>
          <p:nvPr/>
        </p:nvPicPr>
        <p:blipFill>
          <a:blip r:embed="rId3"/>
          <a:stretch/>
        </p:blipFill>
        <p:spPr>
          <a:xfrm>
            <a:off x="-1251000" y="530064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8437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内容占位符 20481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20483" descr="cad4291e28e0f725ff32238d67_5601_副本"/>
          <p:cNvPicPr/>
          <p:nvPr/>
        </p:nvPicPr>
        <p:blipFill>
          <a:blip r:embed="rId2"/>
          <a:stretch/>
        </p:blipFill>
        <p:spPr>
          <a:xfrm>
            <a:off x="-1251000" y="39600"/>
            <a:ext cx="1251000" cy="1308240"/>
          </a:xfrm>
          <a:prstGeom prst="rect">
            <a:avLst/>
          </a:prstGeom>
          <a:ln w="0">
            <a:noFill/>
          </a:ln>
        </p:spPr>
      </p:pic>
      <p:pic>
        <p:nvPicPr>
          <p:cNvPr id="128" name="内容占位符 20484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0485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0486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内容占位符 22529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530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531" descr="2541252_165850689121_2_副本1"/>
          <p:cNvPicPr/>
          <p:nvPr/>
        </p:nvPicPr>
        <p:blipFill>
          <a:blip r:embed="rId3"/>
          <a:stretch/>
        </p:blipFill>
        <p:spPr>
          <a:xfrm>
            <a:off x="-132552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2532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2533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10T07:59:10Z</dcterms:modified>
  <cp:revision>8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