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482-043F-4458-ACD6-ACC11C41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C01-4328-4A6E-841A-43A61166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30AEC-74A8-41F2-9CF6-9C043772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EE928-603B-4CE8-A429-3CED8769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C550C-EDA6-4FF9-94C0-DF3C975C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8255F-395A-49BA-BB04-7098B914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7DEBB-00CF-47C8-9ADD-12A63520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7BD69-8336-4DE7-A772-BCF6438B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B3ECE-2ADA-44D2-A1BF-50DA9359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497B7-D2AC-4B1B-A42B-563EC9A7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6C904-CCD4-4BC8-B533-E53D723B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FAB23-8E65-488A-AD94-DD1D66AF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E10-2FAC-4C20-8701-F1CE2C52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61939-B9D1-48B9-92B6-A0BF73E5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C8750-7A42-47C9-891A-45760126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09D17-1975-48D4-B6F3-D90D5D0C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1760F-3976-43BF-A43D-6BE1DBA9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9C9B7-A580-407A-B51C-3D41E12A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6CB40-0EA3-4372-B1D4-86FBD597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EE103-71EB-4AEE-85E4-834A9B1B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F8FD2-9591-4FEE-9B87-A3248F7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D2E79-9D5A-4A95-8091-40ED4882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FA617-B286-4434-B0BA-F4DF3BD1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F4C-7860-46F2-8D5B-1890BDF5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E8BDF-3E34-4020-A10B-020EAAD4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F546A-0CC9-4687-AC5F-C41E1B54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6022F-FE2C-42BC-80F6-8589C590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AF90A-E339-4F73-B8A0-67963BC8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1E89C-8484-4A64-B07F-D0CC24D5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41905-E5F7-4155-AB6E-91E5FDB5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9E274-946D-4852-8456-C1D54EAB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C3D7B-443D-4A8C-BC76-C20FC5E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93D99-8ED0-43F9-841B-F0DE226F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C0B5E-CF1C-4E14-B8AB-0A0EB41D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03B6-740D-49A1-8D60-952E2697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6ABA9-7A11-45DC-A46D-DF4640A8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0F519-F673-462B-98C3-46ACCC34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381C3-E8DA-4881-A070-6323D614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9AB0C-1710-4E99-A780-4E9ED28F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71AA4-6813-4DCF-B12A-BAAFAD21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68C1D-02B7-4313-BBA6-D97A9350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DB2CF-9D54-4DC9-A2F3-8085922E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B60E9-3A6B-46BE-B25B-6B3A7755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C4A0A-B7F7-4766-8E0A-EB5E0B59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6B786-EDB4-4EF0-9472-A1DF737A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202F-9CE3-4D59-83FD-1EF33E52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E8434-B3E2-46EE-8641-D04D3E2A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30004-DF09-467F-97DB-ACB0B528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36370-826E-41D9-B7C7-574625F9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04872-0871-4D8B-B110-E21E6D72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8304F-26E6-4B48-8B8B-03E49856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C9A1F-4AD0-4858-9DB0-448B5EC5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37032-8E48-46E9-A123-263D4C26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501C1-22E3-4613-A489-D66BF599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67709-3433-461E-9C65-C42D2185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EC9AA-72F7-4050-8195-DC2C4186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D038-41F5-4DC0-8CF9-D395362D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84041-CB25-4B90-BF65-242093DD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E2588-22A1-4B10-BD92-948D2596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E8C81-85C6-412E-BFC9-B719A7F1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1E49F-BC41-4D5E-BF40-79F7280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14DB5-96DC-413D-877A-F3BCD07B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5F178-E710-45BA-965C-E8E2A04B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E88F4-D502-4A34-ABE5-AB4299DC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BF09-651D-48E9-8EE1-2C891887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3B46-5D1E-4976-806E-1212E1A1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93E7-D57E-426C-8D22-97A2E158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6A89-E205-41D6-9DA0-DD1E2758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396-1496-49F2-9C91-0F411697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6259-F745-4FA5-AEDF-6AF31A3F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4993-9B6D-4AE1-9544-5D502446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3D1D-AC9E-4E83-B35C-7CE549A5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3EAE-D47B-4844-91D1-79B7F149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C6E3-B24C-40AD-9578-62FBA234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DC34-47C7-4263-8452-A5C8F044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7410-87F4-409C-BDFF-1405E58D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3BE2-CA00-4F52-836E-59CF6ABA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E042-3BD1-4278-B2FD-C24BB04D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B279-2AEC-4D01-8734-FA079D17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385-1C11-4F75-9F7E-11D03683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CEFA-B582-4BCA-943C-CCB375FA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C469-4897-45F2-B0CC-053A036A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E5AB-AE95-45F4-AE42-F31CDBF0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92AA-96E9-4CAF-8EB4-C794CD84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8E436-6F29-4200-906E-14AD7F24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6A68-C12E-447A-BDF1-1283D58E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5603-D117-44CD-8CB5-3AA1783E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E786-F3E7-4896-B0A0-C1646185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2C6D7-9642-47FC-9811-FB5B52D1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F431-7957-4C84-A8EF-A34E64D1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395-D7EC-4CCD-994F-9876A695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133C-B218-480A-9062-59C22D47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A6E41-8949-4CAF-A1D6-D1E0F112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110C-09F4-4600-B8E1-4B87A35E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E6950-BB98-4F10-893A-E46960C0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B5DD-87CF-47DC-B406-FAF7B330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16F81-B92F-4123-BBB8-2A82A86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68412-F7DD-4E78-9E53-1508FDCA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4C738-A90E-41FB-8205-5CB32AF3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8707-9F65-4DAD-A769-17DDC4CB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FFC05-C1C5-4BB5-AB4E-1AAA70D7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930-3CA6-4C1D-A98E-95DBF1F9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797C2-2A15-4819-B3BA-1F7DE4A3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CF823-D4A3-43C8-A288-0700D672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4567E-066E-4E69-BE00-BB9C5C65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FBBF7-A570-470C-A079-1BBBB24E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7924-FEFD-4979-B0EA-83E23E3F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FA027-31B5-4E1E-A544-C2132517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360A6-0853-4BD8-947A-71E8B56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08450-2482-4E7F-ACA6-48DE0E72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D7926-DE5C-48EB-9693-74F7FE6D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C0E43-222B-4CE5-B177-17292391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D59-5C28-480C-BEEC-E1F0A4BF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5DDB-E19D-4DC8-95B3-2414EB38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59C6-FD37-4D13-895E-FE819738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3B63C-ACAB-4C8F-948D-BEFD1CC5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F67E-496B-407B-A20A-94C29521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A6257-5FB0-46F4-B478-86811743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209E8-9DC6-47B8-BCCA-4FED790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4A91A-E235-4E66-BC5B-7C303B91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4900C-D729-4BAD-B63C-2679DD40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91F36-7BFD-45FD-84E1-DCE2932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2AFA7-C79B-442A-8A80-6C727CCD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2FE-B633-4294-ACD2-12DF25B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CB108-BA5C-43D5-85E7-26C4BD59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0304D-3592-4A2A-A380-FE40E008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7F1E7-69EF-4AF7-8BE5-B51EE6BD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FE18E-FC42-4C3F-8D8B-B3FA4DBE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63BE4-287C-441E-BBF0-C2C4D11C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E5175-4B8A-43AD-83F7-CA1BC83B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18C32-CE79-4EA2-ADF1-31EC75A5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838F0-DC24-4566-9402-0CE17FE4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F83C4-99DD-46BE-8797-E4E2668A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C91AD-06AB-4B55-A1B2-C59CE5D5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1FC-EBFC-49AA-8C61-9D75DA10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3ACBB-377F-4EDD-A158-F6C29750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8BC43-C62B-49FF-9765-86EE25FE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7AA59-2D1C-4084-A7E6-358BEFBD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E826-AE23-4E7D-89A6-1BAE133E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04909-9FC0-4C0F-AE6D-4636F0CC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41418-4B48-4891-B263-5B83918F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33C8-3AB4-48B6-9F32-6B4DB0C3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2B1D2-D426-4A0E-AA9D-5802557C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C45C2-837C-40B4-A6B8-7EF1B8AA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9A2CF-93F6-48C9-9A26-0B0C1D49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369-B2FE-4859-8D06-D893BD4D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27918-DAC2-432B-AB29-BCF2E058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C7F3D-8F09-4AAA-86D7-A1CE9275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9AA49-77CD-45CA-A3B3-28FF5AE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7B860-CCE2-466D-9EAF-1CA9881B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D2598-5DBD-4277-8C05-E5EA4ACA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47E0F-AE39-4A67-B0D3-67FDE5E9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4B1D9-61D2-4AD7-AAB8-7AA2E4E2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18112-9FC3-4C43-8A43-CFC83242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712CE-190A-4B61-8C0E-21FEE81A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31192-21A9-4D2C-9852-5EAC7BEA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F7FD-BAE6-4851-B2BB-5AB1CE6ACB1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93BA-6096-481F-BB08-2174BA3C6B1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DDDA-BB63-4F63-858B-8C7891B592C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4F22-84A6-423A-A4AE-925D741885B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A5F5-6291-4BF2-BF11-46375F8C54F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D053-4F80-4A85-90DB-F20A4AEF2A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1E54-015D-4665-B0DB-5319A46F547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1EAB-827B-4821-81B3-2144E380931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98B9-E245-4A2D-BAB2-1F73E066A67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61F5-727B-4E6D-A4A8-903207F7782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2E2F-4897-4B22-8344-FAE2F4AE8DF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8FDB-33F4-44B6-8F71-1D21D3C17F9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853E-CF31-437D-8873-C1D27B0D176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1"/>
          <p:cNvSpPr/>
          <p:nvPr/>
        </p:nvSpPr>
        <p:spPr>
          <a:xfrm>
            <a:off x="3629880" y="1940040"/>
            <a:ext cx="13993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"/>
          <p:cNvSpPr/>
          <p:nvPr/>
        </p:nvSpPr>
        <p:spPr>
          <a:xfrm>
            <a:off x="2340000" y="5229360"/>
            <a:ext cx="40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mulu"/>
          <p:cNvPicPr/>
          <p:nvPr/>
        </p:nvPicPr>
        <p:blipFill>
          <a:blip r:embed="rId1"/>
          <a:stretch/>
        </p:blipFill>
        <p:spPr>
          <a:xfrm>
            <a:off x="-169920" y="-87480"/>
            <a:ext cx="9423360" cy="704556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"/>
          <p:cNvSpPr/>
          <p:nvPr/>
        </p:nvSpPr>
        <p:spPr>
          <a:xfrm>
            <a:off x="239040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2"/>
          <p:cNvSpPr/>
          <p:nvPr/>
        </p:nvSpPr>
        <p:spPr>
          <a:xfrm>
            <a:off x="329508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渊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3"/>
          <p:cNvSpPr/>
          <p:nvPr/>
        </p:nvSpPr>
        <p:spPr>
          <a:xfrm>
            <a:off x="4227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51523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历代刺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5"/>
          <p:cNvSpPr/>
          <p:nvPr/>
        </p:nvSpPr>
        <p:spPr>
          <a:xfrm>
            <a:off x="6054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四大名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9595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7640"/>
            <a:ext cx="5813280" cy="3094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9080"/>
            <a:ext cx="5811840" cy="309240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3"/>
          <p:cNvGrpSpPr/>
          <p:nvPr/>
        </p:nvGrpSpPr>
        <p:grpSpPr>
          <a:xfrm>
            <a:off x="4308480" y="2946240"/>
            <a:ext cx="641520" cy="3095640"/>
            <a:chOff x="4308480" y="2946240"/>
            <a:chExt cx="641520" cy="3095640"/>
          </a:xfrm>
        </p:grpSpPr>
        <p:sp>
          <p:nvSpPr>
            <p:cNvPr id="546" name="文本框 1"/>
            <p:cNvSpPr/>
            <p:nvPr/>
          </p:nvSpPr>
          <p:spPr>
            <a:xfrm>
              <a:off x="4342680" y="316512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2"/>
            <p:cNvSpPr/>
            <p:nvPr/>
          </p:nvSpPr>
          <p:spPr>
            <a:xfrm>
              <a:off x="4308480" y="2946240"/>
              <a:ext cx="64152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253440" cy="695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xian"/>
          <p:cNvPicPr/>
          <p:nvPr/>
        </p:nvPicPr>
        <p:blipFill>
          <a:blip r:embed="rId2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xian2"/>
          <p:cNvPicPr/>
          <p:nvPr/>
        </p:nvPicPr>
        <p:blipFill>
          <a:blip r:embed="rId3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鸟1-01"/>
          <p:cNvPicPr/>
          <p:nvPr/>
        </p:nvPicPr>
        <p:blipFill>
          <a:blip r:embed="rId4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文字-01"/>
          <p:cNvPicPr/>
          <p:nvPr/>
        </p:nvPicPr>
        <p:blipFill>
          <a:blip r:embed="rId5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  <p:grpSp>
        <p:nvGrpSpPr>
          <p:cNvPr id="553" name="组合 3"/>
          <p:cNvGrpSpPr/>
          <p:nvPr/>
        </p:nvGrpSpPr>
        <p:grpSpPr>
          <a:xfrm>
            <a:off x="423720" y="1779480"/>
            <a:ext cx="640080" cy="3095640"/>
            <a:chOff x="423720" y="1779480"/>
            <a:chExt cx="640080" cy="3095640"/>
          </a:xfrm>
        </p:grpSpPr>
        <p:sp>
          <p:nvSpPr>
            <p:cNvPr id="554" name="文本框 1"/>
            <p:cNvSpPr/>
            <p:nvPr/>
          </p:nvSpPr>
          <p:spPr>
            <a:xfrm>
              <a:off x="456840" y="199836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2"/>
            <p:cNvSpPr/>
            <p:nvPr/>
          </p:nvSpPr>
          <p:spPr>
            <a:xfrm>
              <a:off x="423720" y="1779480"/>
              <a:ext cx="64008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5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6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7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05T07:55:27Z</dcterms:modified>
  <cp:revision>1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